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513-4355-47CB-968C-3EBADC77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D9D-90AD-4F8D-B669-5D54151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8AB-AFA4-49BD-91ED-02F03580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64F-5AFB-4990-8E5A-7AA2AD57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325-7EA9-4FC9-B624-595E0820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803-C77A-4A2F-83E1-9EC9FBB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4E4-DC49-42AC-9AAE-829DD160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9BB-E214-4070-944A-4B5F8994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6DD-F521-4A76-8E60-2469E53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9B5-99D2-4AB2-A423-8EF0ED7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DEA-ABA9-4FCF-8D69-1C2093A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217-FF38-4E40-AEDC-F429E53A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6AB-CE1E-4EA3-B4FD-8ED7EFEA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716280"/>
            <a:ext cx="640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Bodoni MT"/>
              </a:rPr>
              <a:t>Españ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7654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amilia 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02280" y="3357720"/>
            <a:ext cx="4546440" cy="272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67120" y="324000"/>
            <a:ext cx="3981600" cy="288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913" t="0" r="6541" b="0"/>
          <a:stretch/>
        </p:blipFill>
        <p:spPr>
          <a:xfrm>
            <a:off x="324000" y="2060640"/>
            <a:ext cx="374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3640" cy="546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2060640"/>
            <a:ext cx="503280" cy="1224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4753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tiemp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619800" cy="295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24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os monu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34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34136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ára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944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La Mezquita de Córdoba"/>
          <p:cNvPicPr/>
          <p:nvPr/>
        </p:nvPicPr>
        <p:blipFill>
          <a:blip r:embed="rId2"/>
          <a:stretch/>
        </p:blipFill>
        <p:spPr>
          <a:xfrm>
            <a:off x="5435640" y="1916280"/>
            <a:ext cx="2962080" cy="2222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393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arta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Co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196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ita Aug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38876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fút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22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a vida en el ca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375000" cy="225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460680" cy="2593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168720" cy="191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28098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32000" y="4724280"/>
            <a:ext cx="24480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mapa de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4087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paisaj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232000" cy="159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92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39272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169236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963720"/>
            <a:ext cx="364176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1280" y="3917880"/>
            <a:ext cx="7993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MT"/>
              </a:rPr>
              <a:t>La com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tor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chor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ja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pan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pa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vino t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ver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22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76720" cy="2548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0" t="0" r="2556" b="0"/>
          <a:stretch/>
        </p:blipFill>
        <p:spPr>
          <a:xfrm>
            <a:off x="3924360" y="1557360"/>
            <a:ext cx="178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344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87640" y="227664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2376360" cy="2368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2741760" cy="22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3992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i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s Sanferminas (Pampl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46440" y="2708280"/>
            <a:ext cx="4057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09880" cy="42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35636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619280" y="765000"/>
            <a:ext cx="50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s Fallas (Valenc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229200" cy="195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5003640" cy="2793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84720" y="404640"/>
            <a:ext cx="2853000" cy="300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95280" y="3392640"/>
            <a:ext cx="2736720" cy="262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360" y="256536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Fiesta de Abril (Sev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6:55:46Z</dcterms:created>
  <dc:creator>g.09.wipfler.elena</dc:creator>
  <dc:description/>
  <dc:language>en-US</dc:language>
  <cp:lastModifiedBy>g.09.wipfler.elena</cp:lastModifiedBy>
  <dcterms:modified xsi:type="dcterms:W3CDTF">2010-07-27T06:41:45Z</dcterms:modified>
  <cp:revision>5</cp:revision>
  <dc:subject/>
  <dc:title>España</dc:title>
</cp:coreProperties>
</file>